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263-1A89-4DBE-923E-C0F5FA68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755-45D5-4037-98D2-CFBF5D04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C2B-6C90-4EAD-981A-433C2FBA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A75-FF7D-4E0C-9F94-CC3FBFCC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A40-D883-4F3D-A784-B402DA1D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108-147E-4068-AECE-B12849C1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460-E2B1-48CA-9591-FC3A418A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76D-39C8-499D-8DE9-1AC2323E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027-8D82-4BD4-8322-B4CE00C0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613-6C23-4D88-B8C1-0A812828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CF3-B471-407F-B031-5A33A88F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90A-6765-45DE-B84E-F013C241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B4336DC8-7E95-40C0-A4AB-79B36F1BBE74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6960" y="1360440"/>
            <a:ext cx="8137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работать программу, моделирующую жизнь поколений гипотетических колоний живых клеток, которые выживают, размножаются или погибают в соответствии со следующими прави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живая клетка имеет меньше 2 или более 3 соседей в окрестности из 8 клеток то в следующем поколении она умирает (моделирование реальных условий - недостатка питания или перенаселенности), в противном случае она выжива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 пустой клетке появляется живая клетка, если у исходной клетки ровно 3 со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чем процесс ро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гибели происходит за 1 ш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79880" y="3087720"/>
            <a:ext cx="1981080" cy="8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28960" y="308772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56240" y="460044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60600" y="46004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84240" y="582444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37:34Z</dcterms:modified>
  <cp:revision>2</cp:revision>
  <dc:subject/>
  <dc:title>Слайд 1</dc:title>
</cp:coreProperties>
</file>