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216-2BB3-48C6-8338-0435D62C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201-5D15-4565-97C7-24D53E02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E99-C7BD-4CAA-A06A-4C8E81AF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212-5487-4734-A482-6BAA4EE7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05E-DAB5-44C5-828D-23A72BDA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E80-AB00-41B5-8094-9658C147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51B-0202-4260-999A-12EC24DB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F22-1978-4DA7-911C-33E08CEE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F2D-7957-48E2-B8F7-306EAA2E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6F3-1755-4E37-B149-1C039CB2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632-B37C-4537-9F39-E156FE2B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EBF-FAB7-4394-A76C-3CE04CC6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D42014C3-5C2E-4C7C-9606-A0072F54473F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04960" y="3376440"/>
            <a:ext cx="1366920" cy="131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20960" y="3592440"/>
            <a:ext cx="4969080" cy="455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31880" y="1360440"/>
            <a:ext cx="698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йдер, устремленный в центр объекта из 4 флип-флопов, погибает вместе с объектом, с 2 и 4 глайдерами (летящих с разных сторон происходит то-же самое). Но конфигурация из 3 глайдеров дает долгоживущую популяцию, в процессе эволюции которой выстреливаются глайдеры и образуются различные циклические констр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20960" y="316080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ь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84600" y="31608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7520" y="841680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которые циклические констру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15880" y="9425160"/>
            <a:ext cx="4191120" cy="69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15880" y="10504440"/>
            <a:ext cx="4200840" cy="84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44600" y="899316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й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15880" y="10145880"/>
            <a:ext cx="60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мический кораб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54:05Z</dcterms:modified>
  <cp:revision>5</cp:revision>
  <dc:subject/>
  <dc:title>Слайд 1</dc:title>
</cp:coreProperties>
</file>