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985-0A76-4F55-A7FF-14097277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88A-3DE0-4C89-99C5-A82DDC86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015-3A6F-48E4-A2FF-B767AD3D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9AF-8CA6-418B-ABC4-E1AE9DB7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4AC-6601-45F9-8E80-FFE25745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AE4-1AE4-4F00-8C89-015BC229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609-77C4-429F-8C2E-4988B87A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3158-00DC-4C25-A9AD-3B2AAA0A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BD9F-32E6-42CC-99A0-C5FEA2BF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CFFD-103C-411C-A051-2C284D25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89A-3057-4A25-8ED8-5FA5CF2B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18DF-C9CE-4483-9021-2D72083F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1F48DA4F-DB4F-469F-9162-76939A57A43A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04960" y="3376440"/>
            <a:ext cx="1366920" cy="1314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20960" y="3592440"/>
            <a:ext cx="4969080" cy="455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31880" y="1360440"/>
            <a:ext cx="6985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йдер, устремленный в центр объекта из 4 флип-флопов, погибает вместе с объектом, с 2 и 4 глайдерами (летящих с разных сторон происходит то-же самое). Но конфигурация из 3 глайдеров дает долгоживущую популяцию, в процессе эволюции которой выстреливаются глайдеры и образуются различные циклические констр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20960" y="316080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аль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84600" y="316080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еч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87520" y="841680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которые циклические конструк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415880" y="9425160"/>
            <a:ext cx="4191120" cy="695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15880" y="10504440"/>
            <a:ext cx="4200840" cy="84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44600" y="899316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йд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15880" y="10145880"/>
            <a:ext cx="60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смический кораб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54:05Z</dcterms:modified>
  <cp:revision>5</cp:revision>
  <dc:subject/>
  <dc:title>Слайд 1</dc:title>
</cp:coreProperties>
</file>