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FBD-4343-4A62-B473-3B4302E2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1BE-4584-4578-8C73-B4D3FCE8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840-AA27-4322-81D1-EC5747E7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D432-BCDC-4E8E-B894-D203BA23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282-7D5E-421E-A49E-EF84080A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775-CA08-40DD-8BEC-60795120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0CB-DEBF-4EC2-B1A2-10A3D01D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2DC-DE54-4F48-9CEE-40CF29B2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EB4-EA24-42E2-BB8D-C39CBAF9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B04-7AC4-4C54-AF94-DB4B7A7D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6F3-D39B-41C3-B0D5-16BF417E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D17-C6D6-4DDC-95B4-E656920E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E475F39C-CFF8-49C2-94CA-7D0C1509F5A7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04960" y="3376440"/>
            <a:ext cx="136692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20960" y="3592440"/>
            <a:ext cx="4969080" cy="45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31880" y="1360440"/>
            <a:ext cx="69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йдер, устремленный в центр объекта из 4 флип-флопов, погибает вместе с объектом, с 2 и 4 глайдерами (летящих с разных сторон происходит то-же самое). Но конфигурация из 3 глайдеров дает долгоживущую популяцию, в процессе эволюции которой выстреливаются глайдеры и образуются различные циклические констр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20960" y="316080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ь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84600" y="31608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7520" y="841680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оторые циклические констру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15880" y="9425160"/>
            <a:ext cx="41911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15880" y="10504440"/>
            <a:ext cx="4200840" cy="84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44600" y="899316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й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15880" y="10145880"/>
            <a:ext cx="60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мический кораб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54:05Z</dcterms:modified>
  <cp:revision>5</cp:revision>
  <dc:subject/>
  <dc:title>Слайд 1</dc:title>
</cp:coreProperties>
</file>