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02D3-E951-4136-9360-50725ED4D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2115-8FBC-4D3D-ABC4-13C9ED1E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AD93-67FE-4EB1-A1EC-7A148DC17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A194-FEA9-46E9-86AB-8FAA657C1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320A-ABAB-4ECF-87EB-75E48887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21EB-A5AC-4D33-AE1E-75C3256D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DBDF-9A99-4D95-BA55-A4E47146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7197-1A02-4FA7-8001-A19776D3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748B-C22A-4AAD-A740-CFB16937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D0D6-2E8A-4918-9687-08CF53D6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1CFA-3AED-422D-9471-D38594EA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0127-1F31-424B-8747-F691C288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D2573987-8238-4520-A318-0C0820410248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3400" y="622440"/>
            <a:ext cx="4915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04960" y="3376440"/>
            <a:ext cx="1366920" cy="1314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20960" y="3592440"/>
            <a:ext cx="4969080" cy="4551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31880" y="1360440"/>
            <a:ext cx="6985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айдер, устремленный в центр объекта из 4 флип-флопов, погибает вместе с объектом, с 2 и 4 глайдерами (летящих с разных сторон происходит то-же самое). Но конфигурация из 3 глайдеров дает долгоживущую популяцию, в процессе эволюции которой выстреливаются глайдеры и образуются различные циклические констру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20960" y="3160800"/>
            <a:ext cx="38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чальная конфигурац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84600" y="3160800"/>
            <a:ext cx="38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нечная конфигурац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87520" y="8416800"/>
            <a:ext cx="604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которые циклические конструк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415880" y="9425160"/>
            <a:ext cx="4191120" cy="695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415880" y="10504440"/>
            <a:ext cx="4200840" cy="847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44600" y="8993160"/>
            <a:ext cx="604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йд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15880" y="10145880"/>
            <a:ext cx="605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смический кораб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1:17:52Z</dcterms:created>
  <dc:creator>oleg</dc:creator>
  <dc:description/>
  <dc:language>en-US</dc:language>
  <cp:lastModifiedBy>oleg</cp:lastModifiedBy>
  <dcterms:modified xsi:type="dcterms:W3CDTF">2006-05-23T12:54:05Z</dcterms:modified>
  <cp:revision>5</cp:revision>
  <dc:subject/>
  <dc:title>Слайд 1</dc:title>
</cp:coreProperties>
</file>