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6B1-102D-448B-906F-05079585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DE4-778C-4A56-957A-2F9B042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0C6-391A-488B-BFB4-C9D31DC5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9C8-D697-4D75-9432-9A4AF20F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1A4-E22C-495B-B233-EF622F3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B6F-882A-44F5-8B82-0757E134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D66-0D20-401F-9F28-76EBAED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93E-BC5A-4540-ABF3-38B26F08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3ED-40F8-4B4A-BBC9-001C02AF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D5C-6524-4AB3-AA8B-EA908CAE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7F7-1CBF-44A6-AF77-85B4FD05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268-6345-4A93-BF30-D0F61D0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7FF6-4590-4ED2-9076-D40E676C7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граммное средство «Демограф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87640" y="5877000"/>
            <a:ext cx="4064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: студент группы 05 МОС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сонов 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ая цель курсовой рабо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ать программное средство, предоставляющее возможность проводить анализ демографической ситу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следуемы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414972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ть понятный и доступный интерфей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852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мотреть и реализовать алгоритм         анализа демограф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создании ПС интегрировать в него базу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5445000"/>
            <a:ext cx="822960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ить язык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уктура работы с базами да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– средство для рационального и эффективного хран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350028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данных = Таб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365720"/>
            <a:ext cx="82296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БД –ЯМД(языки манипулирования данными)+ СУБД(системы управления базами данн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QL - разработан в 1974 году фирмой IBM для экспериментальной реляционной СУБД System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364500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данный мом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язык баз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ункциональная  сх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30750" t="18136" r="19369" b="11855"/>
          <a:stretch/>
        </p:blipFill>
        <p:spPr>
          <a:xfrm>
            <a:off x="2771640" y="1773360"/>
            <a:ext cx="3745080" cy="2890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31544" t="23073" r="24903" b="40838"/>
          <a:stretch/>
        </p:blipFill>
        <p:spPr>
          <a:xfrm>
            <a:off x="2771640" y="4581360"/>
            <a:ext cx="338292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71640" y="1341360"/>
            <a:ext cx="7427880" cy="5112000"/>
            <a:chOff x="971640" y="1341360"/>
            <a:chExt cx="7427880" cy="51120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971640" y="1341360"/>
              <a:ext cx="7427880" cy="51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 txBox="1"/>
            <p:nvPr/>
          </p:nvSpPr>
          <p:spPr>
            <a:xfrm>
              <a:off x="971640" y="1341360"/>
              <a:ext cx="7427880" cy="511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зультате проведенной работы, было создано ПС «Демография» и с помощью него была проанализирована демографическая ситу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1T18:31:44Z</dcterms:created>
  <dc:creator>Константин</dc:creator>
  <dc:description/>
  <dc:language>en-US</dc:language>
  <cp:lastModifiedBy>Константин</cp:lastModifiedBy>
  <dcterms:modified xsi:type="dcterms:W3CDTF">2007-05-31T19:34:15Z</dcterms:modified>
  <cp:revision>20</cp:revision>
  <dc:subject/>
  <dc:title>Программное средство «Демография»</dc:title>
</cp:coreProperties>
</file>