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DB1-9611-457E-A770-CE52F60E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343-BCA6-489D-88DA-D863708B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FB5-88B2-4B09-B2CF-4C01B1D9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56C-732D-4B2E-B28D-99EF6442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3A2-5CC9-4692-9DE7-4D0D2061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D20-049D-42C5-A988-87CE1A26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F20-85C8-43C2-8921-050DD0F9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CA8-2F0B-45A2-9F92-A981DCA9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3ED-0D8D-4852-8AE6-ABFDA0AE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CD4-C711-4981-B471-BF70B300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E77-1914-4F17-8AC7-FDA83CB7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934-09A7-4F7D-8CB4-C91B7603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DCA2-90AC-45D0-B90E-3AFA3EB6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мное средство «Демограф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7640" y="5877000"/>
            <a:ext cx="4064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: студент группы 05 МОС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сонов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ая цель курсов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ть программное средство, предоставляющее возможность проводить анализ демографической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следуемы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414972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понятный и доступны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852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еть и реализовать алгоритм         анализа демографически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создании ПС интегрировать в него базу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44500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язы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работы с базам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– средство для рационального и эффективного хран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50028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= 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365720"/>
            <a:ext cx="82296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БД –ЯМД(языки манипулирования данными)+ СУБД(системы управления базами данн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QL - разработан в 1974 году фирмой IBM для экспериментальной реляционной СУБД System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645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анный мом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язык баз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ональная 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0750" t="18136" r="19369" b="11855"/>
          <a:stretch/>
        </p:blipFill>
        <p:spPr>
          <a:xfrm>
            <a:off x="2771640" y="1773360"/>
            <a:ext cx="3745080" cy="2890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1544" t="23073" r="24903" b="40838"/>
          <a:stretch/>
        </p:blipFill>
        <p:spPr>
          <a:xfrm>
            <a:off x="2771640" y="4581360"/>
            <a:ext cx="33829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71640" y="1341360"/>
            <a:ext cx="7427880" cy="5112000"/>
            <a:chOff x="971640" y="1341360"/>
            <a:chExt cx="7427880" cy="51120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971640" y="1341360"/>
              <a:ext cx="7427880" cy="51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971640" y="1341360"/>
              <a:ext cx="7427880" cy="511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проведенной работы, было создано ПС «Демография» и с помощью него была проанализирована демографическая ситу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8:31:44Z</dcterms:created>
  <dc:creator>Константин</dc:creator>
  <dc:description/>
  <dc:language>en-US</dc:language>
  <cp:lastModifiedBy>Константин</cp:lastModifiedBy>
  <dcterms:modified xsi:type="dcterms:W3CDTF">2007-05-31T19:34:15Z</dcterms:modified>
  <cp:revision>20</cp:revision>
  <dc:subject/>
  <dc:title>Программное средство «Демография»</dc:title>
</cp:coreProperties>
</file>