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601200" cy="12801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CFC8-0A85-424F-8D5E-3AEFD57FF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864216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520" y="7399800"/>
            <a:ext cx="864216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3EBF-01FB-4599-AE84-B615EAE09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952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0788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02E8-2D02-46E4-988F-27BA21F3B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01640" y="298764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3400" y="298764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9520" y="739980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01640" y="739980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3400" y="739980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C1D9-5FE1-471B-A745-F8A009C32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79520" y="2987640"/>
            <a:ext cx="864216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6DF8-FE50-4878-971C-4A1253CA7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864216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AA8F-4782-4244-9EAA-629C44477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262C-A0B9-4B32-A09C-F80DBCA69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4FF5-75BE-4D0D-BA96-4B38AB8CE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79520" y="512280"/>
            <a:ext cx="8642160" cy="989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4710-A185-4DE3-B319-E9BBF6642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7952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3A2C-FFF6-4209-BF97-11EC02397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0788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0B2D-676F-46E3-9A69-C0322C833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9520" y="7399800"/>
            <a:ext cx="864216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7634-5874-47B7-B450-775058379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79520" y="2987640"/>
            <a:ext cx="864216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marL="479520" indent="-47952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-39996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2" marL="1600200" indent="-3207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3" marL="2239920" indent="-31896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4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5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6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79520" y="11656800"/>
            <a:ext cx="2241360" cy="888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9600" y="11656800"/>
            <a:ext cx="3042000" cy="888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80320" y="11656800"/>
            <a:ext cx="2241360" cy="888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fld id="{D15417C8-5022-48BF-B861-B1AB158334B1}" type="slidenum">
              <a:rPr b="0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03400" y="622440"/>
            <a:ext cx="49150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Пример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704960" y="3376440"/>
            <a:ext cx="1366920" cy="13147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720960" y="3592440"/>
            <a:ext cx="4969080" cy="45514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631880" y="1360440"/>
            <a:ext cx="6985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лайдер, устремленный в центр объекта из 4 флип-флопов, погибает вместе с объектом, с 2 и 4 глайдерами (летящих с разных сторон происходит то-же самое). Но конфигурация из 3 глайдеров дает долгоживущую популяцию, в процессе эволюции которой выстреливаются глайдеры и образуются различные циклические конструк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920960" y="3160800"/>
            <a:ext cx="388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ачальная конфигурация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84600" y="3160800"/>
            <a:ext cx="388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онечная конфигурация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87520" y="8416800"/>
            <a:ext cx="604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екоторые циклические конструкци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1415880" y="9425160"/>
            <a:ext cx="4191120" cy="695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1415880" y="10504440"/>
            <a:ext cx="4200840" cy="8478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344600" y="8993160"/>
            <a:ext cx="604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лайде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415880" y="10145880"/>
            <a:ext cx="605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осмический корабл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3T11:17:52Z</dcterms:created>
  <dc:creator>oleg</dc:creator>
  <dc:description/>
  <dc:language>en-US</dc:language>
  <cp:lastModifiedBy>oleg</cp:lastModifiedBy>
  <dcterms:modified xsi:type="dcterms:W3CDTF">2006-05-23T12:54:05Z</dcterms:modified>
  <cp:revision>5</cp:revision>
  <dc:subject/>
  <dc:title>Слайд 1</dc:title>
</cp:coreProperties>
</file>