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7E2-6978-4311-8069-987D01B3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48E0-7B47-4441-9DB6-3544446A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629-4305-4510-AD48-F2275ED1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7D2-7EC3-425D-B811-3CED7B5D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E4F-1DC6-4D1D-8673-B6DDEAB9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4FA6-A709-47CA-9090-BDC3DF8F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DD5-E7D1-443B-AFF3-392E9043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E7B0-8DC3-4C11-B086-B4CB81B7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DAA6-42B5-4BBB-9B47-1F6E77A0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BA0-476F-4385-BB66-FC75BC1F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B78-77E5-4730-930A-6D031A50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5B3-F15B-41CB-886C-6E9F1DB3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D16A17DB-AEC8-4ED9-B175-4980DF3F25CD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6960" y="1360440"/>
            <a:ext cx="8137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азработать программу, моделирующую жизнь поколений гипотетических колоний живых клеток, которые выживают, размножаются или погибают в соответствии со следующими правил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живая клетка имеет меньше 2 или более 3 соседей в окрестности из 8 клеток то в следующем поколении она умирает (моделирование реальных условий - недостатка питания или перенаселенности), в противном случае она выжива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В пустой клетке появляется живая клетка, если у исходной клетки ровно 3 сос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чем процесс рож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гибели происходит за 1 ш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79880" y="3087720"/>
            <a:ext cx="1981080" cy="885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28960" y="308772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56240" y="4600440"/>
            <a:ext cx="914400" cy="8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60600" y="46004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84240" y="582444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37:34Z</dcterms:modified>
  <cp:revision>2</cp:revision>
  <dc:subject/>
  <dc:title>Слайд 1</dc:title>
</cp:coreProperties>
</file>