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728-388C-4C0F-8AB0-471364FF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18A5-8B58-4ACE-887E-1130D3C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B903-5CF9-4A4D-A318-28EF0669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AD6B-133B-4DCD-97DF-5430FEF9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8A7-4C57-4087-9A9C-91D4AA8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990-0C44-4313-BBDB-F89B096F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50C-86F9-4FBC-8F47-364878F7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739-19D2-4A8B-A949-4C6DC905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8FF4-5DF9-40BE-9015-EDB9F6E1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718D-DDB0-4C8A-8BCD-BF34015E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CD1-6706-4749-9494-9E954C81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D65-A122-48CF-B833-D0F58480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9883F33E-C057-41AA-BCC0-71730AA2AF49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03400" y="622440"/>
            <a:ext cx="4915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Алгорит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20840" y="1265400"/>
          <a:ext cx="7635960" cy="74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0840" y="1265400"/>
                    <a:ext cx="7635960" cy="74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39880" y="6688080"/>
            <a:ext cx="7993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1:17:52Z</dcterms:created>
  <dc:creator>oleg</dc:creator>
  <dc:description/>
  <dc:language>en-US</dc:language>
  <cp:lastModifiedBy>oleg</cp:lastModifiedBy>
  <dcterms:modified xsi:type="dcterms:W3CDTF">2006-05-23T12:28:07Z</dcterms:modified>
  <cp:revision>4</cp:revision>
  <dc:subject/>
  <dc:title>Слайд 1</dc:title>
</cp:coreProperties>
</file>