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775-9A59-4B6E-BEBA-933319D7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AA0-7A78-4133-9647-40A1233E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034-6D3D-4AC5-938B-7B3FDECF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747-0687-475A-BEA1-A5642C69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8A4-6F31-407D-8CEC-F818BE0A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B4A-B2A9-4223-A475-5159F806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CD8-4E46-47A5-9FD4-85FF7442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BEE-8EF1-4B5F-A5D9-9C97173F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DD9-EE29-42A5-BEE2-39A181F8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923-6984-48B4-A51F-089DE55A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751-FAE6-4069-AEA4-5AD4298E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911-87DD-48FA-B43F-ECB091E6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A3CE193-306E-48A1-9FD6-7228B199EC31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20840" y="1265400"/>
          <a:ext cx="7635960" cy="74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265400"/>
                    <a:ext cx="7635960" cy="74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9880" y="6688080"/>
            <a:ext cx="799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28:07Z</dcterms:modified>
  <cp:revision>4</cp:revision>
  <dc:subject/>
  <dc:title>Слайд 1</dc:title>
</cp:coreProperties>
</file>