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38A0-F753-445A-8E6B-8D6658BED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0BA2-D1CC-4067-B43B-82E43C50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C9CC-FA94-48A6-86A7-29329DDF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F30D-7AD3-4322-8555-552903526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D4CE-C580-4E59-9FC3-41FAB0F5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AF5E-3B86-4453-B210-7B762A7F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6643-B10A-43D6-8B9A-8DEF0DF1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A2B8-58B2-47DD-88DD-1509161D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7CE1-5797-4D06-853F-2C5AA41E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CD4F-61FE-47C5-AFED-3F7C4BE1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C8B1-BAB6-4B68-8932-6D2B6C76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F698-EAE0-4CC5-A98D-B6D80AFF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A8F3BA04-F0BE-4235-8D85-55266BC87E58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Постановка задач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96960" y="1360440"/>
            <a:ext cx="81374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Задача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Разработать программу, моделирующую жизнь поколений гипотетических колоний живых клеток, которые выживают, размножаются или погибают в соответствии со следующими правил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сли живая клетка имеет меньше 2 или более 3 соседей в окрестности из 8 клеток то в следующем поколении она умирает (моделирование реальных условий - недостатка питания или перенаселенности), в противном случае она выживае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В пустой клетке появляется живая клетка, если у исходной клетки ровно 3 сосе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чем процесс рож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гибели происходит за 1 шаг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079880" y="3087720"/>
            <a:ext cx="1981080" cy="885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28960" y="3087720"/>
            <a:ext cx="866880" cy="866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456240" y="4600440"/>
            <a:ext cx="914400" cy="866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560600" y="460044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984240" y="5824440"/>
            <a:ext cx="77770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1:37:34Z</dcterms:modified>
  <cp:revision>2</cp:revision>
  <dc:subject/>
  <dc:title>Слайд 1</dc:title>
</cp:coreProperties>
</file>