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12801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AFF2-9446-480D-BAF9-F9AFD7DDC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88D9-423D-42EF-92CB-04FFAC28B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CF51-BD80-4FB6-BCB1-F10584037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164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40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52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164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40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7333-D6F5-4E78-B375-F8B8B48DA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4CBC-78B1-4312-A86C-9082E3F95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F33B-0202-459D-B4B1-64CE1E316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6982-2AEA-4592-957D-24BD5BB48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375A-826F-47ED-85B1-C1B68B9B5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9520" y="512280"/>
            <a:ext cx="8642160" cy="98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1F61-C161-4652-A0CF-011266DFC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E1CB-BEF2-4336-924A-C782E4E27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8F87-73F8-4CE0-A355-35678EFC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D5F3-9F63-43DA-9145-42469F2D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320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318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95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11656800"/>
            <a:ext cx="304200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FA6B2B01-05F0-4992-9468-7B9363A31E1E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03400" y="622440"/>
            <a:ext cx="49150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Пример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04960" y="3376440"/>
            <a:ext cx="1366920" cy="1314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720960" y="3592440"/>
            <a:ext cx="4969080" cy="4551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631880" y="1360440"/>
            <a:ext cx="6985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лайдер, устремленный в центр объекта из 4 флип-флопов, погибает вместе с объектом, с 2 и 4 глайдерами (летящих с разных сторон происходит то-же самое). Но конфигурация из 3 глайдеров дает долгоживущую популяцию, в процессе эволюции которой выстреливаются глайдеры и образуются различные циклические констру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20960" y="3160800"/>
            <a:ext cx="388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чальная конфигурац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84600" y="3160800"/>
            <a:ext cx="38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онечная конфигурац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87520" y="8416800"/>
            <a:ext cx="604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екоторые циклические конструкци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415880" y="9425160"/>
            <a:ext cx="4191120" cy="695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1415880" y="10504440"/>
            <a:ext cx="4200840" cy="847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344600" y="8993160"/>
            <a:ext cx="604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лайд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15880" y="10145880"/>
            <a:ext cx="605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осмический кораб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3T11:17:52Z</dcterms:created>
  <dc:creator>oleg</dc:creator>
  <dc:description/>
  <dc:language>en-US</dc:language>
  <cp:lastModifiedBy>oleg</cp:lastModifiedBy>
  <dcterms:modified xsi:type="dcterms:W3CDTF">2006-05-23T12:54:05Z</dcterms:modified>
  <cp:revision>5</cp:revision>
  <dc:subject/>
  <dc:title>Слайд 1</dc:title>
</cp:coreProperties>
</file>