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77A-2D63-426A-B96D-ACC575A7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DE4-6E2C-49E3-B952-CADB005F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CB8-AE86-48A5-8DED-66AB020B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564-D988-4140-BAB6-63F22A15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8266-DA0A-4BF7-87FC-C2CF2DC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D71-90D2-47D2-98E7-15BC515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104A-AC80-4F7B-AA58-77D4547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87C-5892-4767-A003-B010AC39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E48-053D-4C10-B914-C652CCC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4E7-DA7A-46B8-9269-54B3D683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E61-C2E5-4D74-A4BD-4D5149D9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666-9663-47EE-A70C-70C83CA3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DBA603F-6BD8-4391-A143-24E4A25024E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тод реш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12960" y="1216080"/>
            <a:ext cx="7488000" cy="614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820116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0024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7188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144960" y="8201160"/>
            <a:ext cx="1704960" cy="172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087880" y="8201160"/>
            <a:ext cx="1743120" cy="171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87880" y="784080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032600" y="8201160"/>
            <a:ext cx="1695600" cy="171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61320" y="784080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о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1:58:10Z</dcterms:modified>
  <cp:revision>3</cp:revision>
  <dc:subject/>
  <dc:title>Слайд 1</dc:title>
</cp:coreProperties>
</file>